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1EB9-E1B3-4689-8BE0-B2115697F80A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Revised Repor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New Local queue to store Archived Account and Balance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Service will be modified to store Report data into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pplication EXE will be modified to fetch Report Information locally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racle database at Member End will be modified to store the related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all the archived data from their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the current data from the Host End (DB2 Databas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wo different options are added to the GUI for viewing the past data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Host End will send the balances and account information to the new local queu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QUIREMEN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REPORT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523880"/>
          <a:ext cx="76960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960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n-Demand Report Processing at the Central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is stored as Data File on the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processing query consumes high usage of CPU resources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QUIREM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arket Participants should get same Report Information without causing High CPU Utilization at Host End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ransaction throughput should be within acceptable limit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he selected reports will be available locally from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Host sid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alculate balances of each ISIN for all members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nd balances to corresponding Members through MQ Serie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contd.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t Member End, Report Service will read the Report messages and store data into local Oracle Databas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Request will be processed locally on the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752480"/>
          <a:ext cx="701028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0102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, Host will populate Balances of each ISIN for each member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Q Message format will b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parate Report Type for EOD Member End Repor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733920"/>
          <a:ext cx="822960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82296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34:43Z</dcterms:modified>
  <cp:revision>475</cp:revision>
  <dc:subject/>
  <dc:title>Software Project Management</dc:title>
</cp:coreProperties>
</file>